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5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6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5B38-D8A9-4942-AF47-C854701D4C40}" type="slidenum">
              <a:rPr b="0" lang="en-US" sz="1200" spc="-1" strike="noStrike">
                <a:solidFill>
                  <a:srgbClr val="000000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F37F-4D45-4B08-8110-0EB7460481E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E34E-88A7-40DE-AB5A-409BD6A0204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C1D5-8ED6-4B57-81B5-797EFC7ACC1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1DFE-76C2-4D64-9F74-06CBE1A61CA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355F-414D-47CB-B1FD-24426AF94FF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655F-5033-466B-A203-289A530A727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6061-2953-4163-8831-9457C26C341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7660-4F2E-45E7-A512-8289CCF1161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C95C-A73B-4583-8132-6E69990CEF0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3404-4106-4C5E-87BA-5DC2343C164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BAEB-10FC-4C4A-B9C3-C1F97A55F65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3BD4-5903-4CD3-9A41-D3D8603B587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25EE-1E34-4F73-A4FE-804A48BA68B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1223-2BA6-40A0-821E-A779E8F9C45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D091-8725-4908-9A3C-CEC45F2D944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1575-97F6-4967-B0DE-75DA151B95A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A606-3027-47CD-AE90-8AED34064BF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A8DE-A50D-4F78-9BE8-FC3E32EF023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7D44-8360-454E-B92A-28333402945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8D16-0267-474C-8C3C-1D4F0CC72BC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8CAB-10AF-4A98-88F7-1B897A0F02A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D56A-C86F-411D-A004-04AD22513D9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1CCB-6FE6-4D1D-AE6E-23A3A7949C4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AB71-79C3-40FF-A549-F99EF9929FB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D348-010D-4ECA-B910-5BC5E2EDC12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1A2B-7D42-4B5F-BA96-34EE7F32A99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159B-C4A2-45CE-9536-84BECA70706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B225-063B-4CDA-92F8-C420F973CED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B78C-2616-4BBF-9034-E367ED84665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C3B0-D6C0-4F88-A0D2-15F1DF504E2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4B40-F7C6-41FD-A60C-EE510C47638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98FD-6D73-4107-82BE-89F10D7641F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2522-577E-48E7-815E-B7827DFC844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89F9-FB2D-492F-AE44-5921DAD6665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D4E0-08E9-4007-9665-8F3E587308C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0E87-94BD-41EB-8C5A-478E3E52988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91F9-1E90-4DCD-AF0A-9A0D135404F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E1A2-0925-4044-A695-C1326E53514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8926-A394-4AA7-B143-B9668DBA7AC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B82B-0F2A-4797-9AFF-DB69FA9E515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22E9-1AD0-427C-8930-0E24ED0F1B6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8F08-4535-4729-8453-AD4B4C3E7C8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FE7F-5F23-4F51-95CF-39F93C60C76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07BF-312C-4D68-BC42-D24E2351626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DC11-2D3A-4EC2-8B8C-79C28D86FC6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0ECA-0571-47E9-94F8-130766EB801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A36D-C165-4E32-A070-B7376ECBB1C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A1BE-835D-4C03-B734-9A82233E081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DD4E-B198-4FEA-9B96-B8A3972160D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4854-2E97-449A-8146-29DD20D441C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D465-4A51-4ABB-BD26-70C6C91DFA0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575D-C9F0-41BD-9574-96394E943AD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DBE9-3187-4C22-9681-7D922692977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F9CD-6138-4D06-8448-A9F7ED499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5D0B-D860-4384-BB14-84E0FE12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44A4-8175-464C-BF1A-0B3395A07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734F-2DB0-403F-94BB-69EB1A9B8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5A15-F599-44AD-B32B-F34D613A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59E8-EEE1-4A9C-B386-61FEE7FD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E5CC-461D-493D-A596-5AB45C21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90A0-FCE1-45B7-B438-328C137E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002F-4F28-4452-A891-FA4DB914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66F2-D52E-4D7E-8FD6-AB3FCFA2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AD0E-D01F-4342-90BF-0C7BD264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9288-396E-415B-8B52-9C772943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32B0-C716-4180-AD95-5951B5CF026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308720" y="6381720"/>
            <a:ext cx="1182960" cy="35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3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17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0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3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136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7" dur="1" fill="hold"/>
                                  <p:tgtEl>
                                    <p:spTgt spid="14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08" dur="1" fill="hold"/>
                                  <p:tgtEl>
                                    <p:spTgt spid="14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2" dur="1" fill="hold"/>
                                  <p:tgtEl>
                                    <p:spTgt spid="15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155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6" dur="1" fill="hold"/>
                                  <p:tgtEl>
                                    <p:spTgt spid="1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5" dur="1" fill="hold"/>
                                  <p:tgtEl>
                                    <p:spTgt spid="1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4" dur="1" fill="hold"/>
                                  <p:tgtEl>
                                    <p:spTgt spid="1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8" dur="1" fill="hold"/>
                                  <p:tgtEl>
                                    <p:spTgt spid="17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7" dur="1" fill="hold"/>
                                  <p:tgtEl>
                                    <p:spTgt spid="17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6" dur="1" fill="hold"/>
                                  <p:tgtEl>
                                    <p:spTgt spid="1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1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6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" dur="1" fill="hold"/>
                                  <p:tgtEl>
                                    <p:spTgt spid="7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2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8" dur="1" fill="hold"/>
                                  <p:tgtEl>
                                    <p:spTgt spid="21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2" dur="1" fill="hold"/>
                                  <p:tgtEl>
                                    <p:spTgt spid="2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79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1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9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 Thursday 5th December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1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2" dur="1" fill="hold"/>
                                  <p:tgtEl>
                                    <p:spTgt spid="9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8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3-08-05T08:39:43Z</dcterms:modified>
  <cp:revision>94</cp:revision>
  <dc:subject/>
  <dc:title>Aims and Objectives</dc:title>
</cp:coreProperties>
</file>